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AF5-40DD-4746-9C18-7B2C12C5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8BE-FFAE-4C2A-A4D2-A8644F90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F8B-F582-4A5E-82D0-BAC87766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328-E515-469B-9D09-22B51BAD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AEA5-6F07-45FF-BCB2-D15693EF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A6F2-E26F-4FC5-9314-F0122D55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8F39-C7DD-4A9A-B45E-B49B2D13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239C-EEFC-403B-A2F7-9C449A9E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401A-AE77-4BC2-A61B-83925558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2EB1-8DDE-4FF2-8F8F-3609D2F8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9004-9AD0-4F3B-9C08-1BA147D2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F7D-6182-48EB-A685-50C83C40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A72E-8D85-4846-BCFA-130E9AA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4B7D-731D-4244-904D-A1B80AD9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3E73-7F4D-4ABF-82EC-8424640A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EA83-C199-42EF-8E98-D108514C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3AA3-C216-4E0E-810F-E3D7F55D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5416-5784-4A91-8D14-4F9A6413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BD2C-98DF-4E64-84BA-905878EF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19823-1557-42E2-BBF2-3E2A8B6E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F13D-8D46-4A4D-810C-6C0FBF95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04B5-E8C7-4334-A259-95B81C18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65A-1753-410B-915A-5E17B9F5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7D88-479D-447A-A32D-1D68FBA3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37F1-94E9-4AE9-80F3-3D11167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8D73F-C995-4CCD-BB2E-0A1F7C03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D590-81CE-453C-AAC8-B7C90F6B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0C3F-2BD2-4CC1-B55E-FE20C900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7CC5-B9F8-45F4-BD63-D3DD0769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32FB-EF70-42C4-B7C1-783EB824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354D-2CF5-4DD1-A172-96408193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B2A90-CB07-4C68-BD38-7CE8E67D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D5644-BCC5-4782-B8C6-FE993D90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C96-2E46-4B58-8E06-67D4E2A8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B3FF-3F37-4816-86CC-D00C22D5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ACDC-AB60-4159-9264-25B61A97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C5146-26FB-455E-A15F-D9CF61BF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27C9-F7E5-4B32-86D8-9DC10E5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19AA-5408-417A-8C82-A8EE1DAE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DB9C-652A-4B8D-BC25-73B1EBD6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73EF-537F-4AF6-A3EE-6708A344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82C5-17EA-4A3F-868C-D03CC96C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671CB-3AA1-4E2D-9838-DB2D27AA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0FC-75E6-40DD-B194-5F8A0D00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73E-3F82-4CE7-9D7C-2CC41461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BAE-2B9D-4A9C-B4B6-7CD51B9F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7F1-E256-45FE-99AE-34848E2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68A-D3D7-445C-BF25-C33AF6F7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84D3-7EB5-439B-8A91-8620FCCD86E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7EB7-2C3E-4069-B195-088F0E40BDB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30AD-891B-4FC3-8BC2-139C9D0BF74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E9FE-EA22-4055-B929-B3C163DC1BE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538px-Hexahedron"/>
          <p:cNvPicPr/>
          <p:nvPr/>
        </p:nvPicPr>
        <p:blipFill>
          <a:blip r:embed="rId1"/>
          <a:stretch/>
        </p:blipFill>
        <p:spPr>
          <a:xfrm>
            <a:off x="2843280" y="2205000"/>
            <a:ext cx="3573360" cy="39783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7"/>
          <p:cNvSpPr txBox="1"/>
          <p:nvPr/>
        </p:nvSpPr>
        <p:spPr>
          <a:xfrm>
            <a:off x="1042920" y="404640"/>
            <a:ext cx="705636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б и его св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8360" y="2276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ознакомиться с понятием куб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узнать, что представляет собой сечение куб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находить объем куба по формул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- находить площадь поверхности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уба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1258920" y="765000"/>
            <a:ext cx="6256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5400000"/>
                </a:gradFill>
                <a:latin typeface="Times New Roman"/>
              </a:rPr>
              <a:t>ЦЕЛИ ПРОЕКТ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2f5e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971640" y="304920"/>
            <a:ext cx="76388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новополагающие вопро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чало куб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является куб для нас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секреты хранит куб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блемные вопросы учебной те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просы учебной темы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куб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ми свойствами обладает куб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а формула объема куб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а формула площади поверхности куб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8"/>
          <p:cNvSpPr txBox="1"/>
          <p:nvPr/>
        </p:nvSpPr>
        <p:spPr>
          <a:xfrm>
            <a:off x="684360" y="189000"/>
            <a:ext cx="781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МЕРЫ КУБ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2" name="Picture 9" descr="3057x1500y1500"/>
          <p:cNvPicPr/>
          <p:nvPr/>
        </p:nvPicPr>
        <p:blipFill>
          <a:blip r:embed="rId1"/>
          <a:stretch/>
        </p:blipFill>
        <p:spPr>
          <a:xfrm>
            <a:off x="2124000" y="1989000"/>
            <a:ext cx="4419720" cy="4419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0_ab6b_c676dc4a_L"/>
          <p:cNvPicPr/>
          <p:nvPr/>
        </p:nvPicPr>
        <p:blipFill>
          <a:blip r:embed="rId2"/>
          <a:stretch/>
        </p:blipFill>
        <p:spPr>
          <a:xfrm>
            <a:off x="1116000" y="2205000"/>
            <a:ext cx="6350040" cy="3759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23866--Large"/>
          <p:cNvPicPr/>
          <p:nvPr/>
        </p:nvPicPr>
        <p:blipFill>
          <a:blip r:embed="rId3"/>
          <a:stretch/>
        </p:blipFill>
        <p:spPr>
          <a:xfrm>
            <a:off x="3276720" y="1773360"/>
            <a:ext cx="2496960" cy="3970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1210916645_wc_11"/>
          <p:cNvPicPr/>
          <p:nvPr/>
        </p:nvPicPr>
        <p:blipFill>
          <a:blip r:embed="rId4"/>
          <a:stretch/>
        </p:blipFill>
        <p:spPr>
          <a:xfrm>
            <a:off x="1547640" y="2276640"/>
            <a:ext cx="5715000" cy="319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Schutz_plastik9246"/>
          <p:cNvPicPr/>
          <p:nvPr/>
        </p:nvPicPr>
        <p:blipFill>
          <a:blip r:embed="rId5"/>
          <a:stretch/>
        </p:blipFill>
        <p:spPr>
          <a:xfrm>
            <a:off x="2124000" y="1700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11280" y="19159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чебные вопросы для 1-й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то такое куб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ова формула площади поверхностей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чебные вопросы для 2-й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то называется сечением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ова формула объема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187280" y="9079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2 группы исслед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арыгин И.Ф. , Шевкин А.В. «Математика: задачи на смекалк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льман Я.И.   «Занимательная геометр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йкин М.И.   «Развивай геометрическую интуицию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рднер М.    «Математические чудеса и тайн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116000" y="112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6"/>
          <p:cNvSpPr txBox="1"/>
          <p:nvPr/>
        </p:nvSpPr>
        <p:spPr>
          <a:xfrm>
            <a:off x="1332000" y="2060640"/>
            <a:ext cx="7018200" cy="25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ВНИМ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ДЁМ ВАС НА НАШ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АХ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9:58:43Z</dcterms:created>
  <dc:creator>Олюшка</dc:creator>
  <dc:description/>
  <dc:language>en-US</dc:language>
  <cp:lastModifiedBy>26529</cp:lastModifiedBy>
  <dcterms:modified xsi:type="dcterms:W3CDTF">2010-06-04T10:41:00Z</dcterms:modified>
  <cp:revision>37</cp:revision>
  <dc:subject/>
  <dc:title>Тело Вращения - цилиндр</dc:title>
</cp:coreProperties>
</file>